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5FB-3542-4499-9EDD-74C8B6C99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71AD-061C-4D02-A6FD-983196A13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89E-1352-4890-BC25-C1A6725E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A94-3C63-449E-9D8C-DDF3C01D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428-114D-459C-8A23-F482DCB9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D7B-4688-4BD0-B725-2266F720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F1D-71DA-4615-9F3D-0E247655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B25-5413-4438-9F77-43770D5D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8A0-1584-4492-83C4-EFFDB94A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4E0-A6CC-4C1B-80A3-B396225E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DDB-BD4B-429C-B9B8-E4868C23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884-54CB-4C79-839E-4A92A9C6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410-4F6E-4C9A-A60C-750302C8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F37-C95B-449A-863F-9FF919EF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8857-E7E1-4514-8E33-FC4065D7E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0760" y="2730600"/>
            <a:ext cx="7845480" cy="3776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筆頭発表者のＣＯ Ｉ開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①顧問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例：なし　ｏｒ　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②株保有・利益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③特許使用料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④講演料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⑤原稿料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⑥受託研究・共同研究費： 　 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⑦奨学寄付金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⑧寄附講座所属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⑨研究とは直接無関係なものの提供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　　　　　　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正方形/長方形 3"/>
          <p:cNvSpPr/>
          <p:nvPr/>
        </p:nvSpPr>
        <p:spPr>
          <a:xfrm>
            <a:off x="194760" y="3031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様式１－</a:t>
            </a:r>
            <a:r>
              <a:rPr b="1" lang="en-US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</a:t>
            </a: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6"/>
          <p:cNvSpPr/>
          <p:nvPr/>
        </p:nvSpPr>
        <p:spPr>
          <a:xfrm>
            <a:off x="650880" y="1204920"/>
            <a:ext cx="77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筆頭発表者：　演題発表に関連し、開示すべ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 I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関係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ある　企業などはありませ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7"/>
          <p:cNvSpPr/>
          <p:nvPr/>
        </p:nvSpPr>
        <p:spPr>
          <a:xfrm>
            <a:off x="574560" y="1104840"/>
            <a:ext cx="7894800" cy="88416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正方形/長方形 9"/>
          <p:cNvSpPr/>
          <p:nvPr/>
        </p:nvSpPr>
        <p:spPr>
          <a:xfrm>
            <a:off x="1230840" y="2268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或いは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7:39:07Z</dcterms:created>
  <dc:creator>Travis Alexander Yano</dc:creator>
  <dc:description/>
  <dc:language>en-US</dc:language>
  <cp:lastModifiedBy>FJ-USER</cp:lastModifiedBy>
  <dcterms:modified xsi:type="dcterms:W3CDTF">2012-06-28T04:49:17Z</dcterms:modified>
  <cp:revision>97</cp:revision>
  <dc:subject/>
  <dc:title>PowerPoint Presentation</dc:title>
</cp:coreProperties>
</file>